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chimes.wav" ContentType="audio/x-wav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27.jpeg" ContentType="image/jpeg"/>
  <Override PartName="/ppt/media/image10.png" ContentType="image/png"/>
  <Override PartName="/ppt/media/image29.gif" ContentType="image/gif"/>
  <Override PartName="/ppt/media/image30.jpeg" ContentType="image/jpeg"/>
  <Override PartName="/ppt/media/image15.png" ContentType="image/pn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5.jpeg" ContentType="image/jpeg"/>
  <Override PartName="/ppt/media/image12.wmf" ContentType="image/x-wmf"/>
  <Override PartName="/ppt/media/image8.png" ContentType="image/png"/>
  <Override PartName="/ppt/media/image16.png" ContentType="image/png"/>
  <Override PartName="/ppt/media/image3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media/image18.gif" ContentType="image/gif"/>
  <Override PartName="/ppt/media/image14.png" ContentType="image/png"/>
  <Override PartName="/ppt/media/image17.png" ContentType="image/pn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7C9C-A8A9-4409-9164-CB88F63C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663-5A5C-4A0D-9C26-9CB282BF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AC42C-CB68-4729-AFD4-EDE76BDC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319E2-A1F5-49D7-A697-4E8D91ED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228E7-0DF4-4095-A929-EEE1BC85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B344A-18E2-4118-BE3A-7D48EA13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7937E-E11E-478D-B176-F7198CBD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187799-83DD-4E88-AED0-2E2D24D5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CCDEAB-3902-4389-9EEB-62E37163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D4353-42E4-48F0-A3FA-6DCF9261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AEC9C8-1399-4D2D-B7B9-A52B4812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B9849-951E-43E4-8C7B-EDE4AC20F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B79A-6CC1-4EC4-8EA8-0BE7F2332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81B8A-2CBB-42F8-8CE5-D40CC7D9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DBF21-06F3-4B8E-8B81-D6AD55E0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A728C-D9BC-4D2C-A79F-9A8E80C7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313413-D7F2-4B0E-BD8A-D5C2406F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E8BD4-8950-44BA-9F1C-0595BE06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A34FF-B56C-49A9-8BEF-4664D24D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2CF44-8E4A-4915-BDA0-99AD584A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FD9D01-52A1-47D1-9A17-4290FD8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6B127-4838-4604-BE11-8C2E93BC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689BA-4323-4934-8B90-83F62B697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5AC-D523-4907-96D7-ABEBB4D3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D4220-8654-465A-823D-6FC43530D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FE399-3593-49BA-B44C-56C350D4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4DD0F-2F3A-40C9-9E9D-EF22E043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DC4DA-A68F-4FC3-980C-3E42F5C3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3072E-F5D6-411D-9A9B-4A1C3C2CB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974DB-3ACD-4A18-BF1A-14147AD2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5222F-65ED-4B34-B1FB-12899AFB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9F87C8-3971-4DC1-9B0F-2B75A3C0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A0BF4F-5D02-4461-A838-C6656AF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091FB-CB57-43E8-B43F-D0DD942F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2AB2-91C0-4750-99EA-B8C4507B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8596D-8C35-49A1-A9C2-B1525B1C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90AB4-FDE4-431D-8A41-B4FC75741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A4CB5-0FA0-4739-B72B-68E513940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A060-598B-4C3A-89B8-60D737B3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7F6A-78E3-426D-8110-0D79A74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A8DB-6AA7-4AFB-9626-DF8A074D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E877-1BE9-4F9B-B3E5-468A9F47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CD99-245D-4FD2-9AE3-E8AAE69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E806-4A7B-4BD8-BA4E-60AC2740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538-1020-4CDC-B65F-B86E050F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16AA-B25C-4935-BA8D-92CA5D31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8ECF3-9B25-44E9-896C-AFF7FF7E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7EB4-1D04-4FD6-89E7-AF77BEA5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C9D5F-B83E-47A1-A19C-C53A9AB11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7B06-5354-474B-A44A-92914FC14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E8F9E-20CD-4CAB-8E9E-B981E85B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7CB28-7391-4780-8FD5-B183FA6D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11DF8-D49A-41BD-8945-4E2B0DA8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3302A-5C34-4D20-9B51-5A281A6E6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EC94B-DB3F-465F-A7D4-03BDC0EB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C1A-02A9-4DDA-B91E-DB674A57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EADA2-8151-4984-A9E9-B9AA67A68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7FC13-18DE-418A-87A2-1F1FC730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156F-734A-48D6-97E2-BB496F73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F0840-26F4-47E6-901F-9648986D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56E6-C252-4C47-BC0E-D989C49A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7FC27-84FE-4A8B-904B-D7D67DD5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73A94-42EE-48F5-8EC5-8C4BAA82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4E70-38C9-49AD-A5F0-B4A59E01A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F6DBE-1C12-4396-B28E-4D535AB2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7242F-B6FA-4F22-B1DE-6CA1D547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F6AB-C4EF-49D9-935C-2491D9F8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38421-EF2B-40B9-AFAC-D099DA0B4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DF963-EC35-41F4-9D35-27C48850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AB683-494D-4A9D-8B79-09AD5421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A8BCC-78DE-4B3C-B1F8-17DCD121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B6715-458B-400B-B01A-9844BEC7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D93CF-B7AE-4C45-8A40-3BC00F25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76EE7-BE4A-4388-888A-56E7AA00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20114-61A3-4E74-AC4C-F39BAE0E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9149D-88DC-4BDD-B63F-80B7478A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3A1B4-D3FE-4E71-9E6E-F19C57C6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871-F73F-44AF-A3A1-9A52F990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43D0-2625-427A-B8DA-9A23444B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4A549-2DE3-416E-82CE-D1A697A5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80274-D04D-404F-8AE3-88EBC437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D58E3-814B-4ED1-99E3-B73FF90A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E11711-B244-40C0-9649-7CCC352F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E6459-7065-4040-A1D5-3678A2FB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0F4CD-39FE-446E-BF94-B544A9F5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BF475-C438-4011-9A9B-20E5413C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79526-976A-493A-9856-02130A15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66BFD-29F4-443A-A30A-00460031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CCE-7324-42B6-A880-7EDDDE1B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C9EA7-7E40-41F7-A81D-5A1AF9512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85075-CC10-46E8-9B65-BC6ADCED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A6DFB-FDF2-4F3D-8D48-B97972CB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EA01A-20B6-4712-8F83-996F17B6F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F5B58-E892-4B39-B24E-32DD8958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37E1D-9E0E-4260-95B1-D7A1F0A4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80FCA-B88E-48D6-AA35-8CDE9A4E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F7EB0-5100-4F93-9E20-D3946F0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20B53-D44F-4F19-8139-C39F07A6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ADC93-174F-43AB-97F2-5568197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F48-FA46-4CD9-9A2E-8ED425F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7DE51-A2A1-4AD8-8278-E12BE1B8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97A82-99F7-48EE-9590-1B095726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3C12E-8DE1-45BE-A8ED-4760E978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EF751-6107-4895-ABED-D4C1055E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39266-9F56-4866-BFE4-7F1227FC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D0D70E-E2EC-4640-8F5A-7B13306F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3D4B2-ED9E-42B0-B207-2E41DDAD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445D6B-AF4D-41A4-8A0C-00C1F0E2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52876-1604-4878-8AB0-AA30117D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845F-53CF-494E-B7CC-73A9931E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07CC-3183-4CD0-930B-34496C22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4E717-9E39-4C52-96BF-293AD6B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5674E-6FBE-4185-AFF3-246D2111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9DB87-F8F5-4691-B984-5DBE6110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ED030-E8A7-4A27-B270-C063BFD5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0E525-8966-41D4-8174-5EDEF3C6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41437-FD29-4527-9D77-419EDBE4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5C02B-6377-4DD0-858B-B6B96DCA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21E48-FCEE-4C8F-BEBE-5C37635D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52E7D-DDBC-4938-AAD4-0FCCD4D5F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F8C980-0F39-42F3-8157-3BE55586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10DA-0043-4D2C-8BA4-2BCC2A6A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721E2-2D81-42E6-8A7A-111D7B91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859A5-5BC7-40BE-8E5E-508775AAC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AEE13-B28E-4203-ACC7-2C1B3DB3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8F10A-47F8-4C3B-81FD-9AE3211F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6C2719-2F1B-48FC-BB48-236A7EFC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B6FB6C-A7EA-4F17-8010-34E553EC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023E0-FDAA-46FB-9611-C4A43C4B2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AE7F3-9686-4231-8AD7-A06D00BCE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C5CDB-7557-461A-98B1-DC28D33D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53A04-EAE6-4ECF-BF29-0D9B55EA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FD33-0077-4A30-A6B6-2115D016A6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EF6E-9A8B-4B85-B12D-D70C9397A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B0D3-F477-4059-BE2B-E2C0CE9F99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3A80-20A5-4DD9-BE0C-35A1400E5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A6C81-9330-4C34-B885-3E064C86AC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BD03-249D-4E41-9905-414A9D001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89C9-952F-46AC-B49C-88EB9918A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66A0-8E8D-4895-A211-A115D099E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256E-4F28-4506-91C0-EDC0ABB72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974B-43F3-4DAC-8B61-CFC6208BA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9E81-6088-4F39-ABD6-5A6E06EF6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4" descr="200861795854662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Text Box 5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835280" y="1341360"/>
            <a:ext cx="597672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单韵母：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 o e i u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声母：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y w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b  p  m  f  d  t  n  l  g  k  h  j  q  x  z  c  s  r  zh  ch  s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体认读音节：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i  wu  yu zi ci si zhi chi shi 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7" descr="dyd"/>
          <p:cNvPicPr/>
          <p:nvPr/>
        </p:nvPicPr>
        <p:blipFill>
          <a:blip r:embed="rId3"/>
          <a:stretch/>
        </p:blipFill>
        <p:spPr>
          <a:xfrm>
            <a:off x="611280" y="404640"/>
            <a:ext cx="2305080" cy="863640"/>
          </a:xfrm>
          <a:prstGeom prst="rect">
            <a:avLst/>
          </a:prstGeom>
          <a:ln w="0">
            <a:noFill/>
          </a:ln>
        </p:spPr>
      </p:pic>
      <p:sp>
        <p:nvSpPr>
          <p:cNvPr id="457" name="灯片编号占位符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3393-ED75-418C-A8E6-84147477C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2299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2" descr="20070127233127552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"/>
          <p:cNvSpPr/>
          <p:nvPr/>
        </p:nvSpPr>
        <p:spPr>
          <a:xfrm>
            <a:off x="971640" y="0"/>
            <a:ext cx="45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标调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187280" y="907920"/>
            <a:ext cx="5400720" cy="68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ɑ o e,i u 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标调时按顺序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在，不放过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ɑ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上标调就摘帽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并排标后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836D-A976-4972-844E-1DAD537A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3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4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3" name="WordArt 15"/>
          <p:cNvSpPr txBox="1"/>
          <p:nvPr/>
        </p:nvSpPr>
        <p:spPr>
          <a:xfrm>
            <a:off x="1692360" y="692280"/>
            <a:ext cx="75096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4" name="WordArt 16"/>
          <p:cNvSpPr txBox="1"/>
          <p:nvPr/>
        </p:nvSpPr>
        <p:spPr>
          <a:xfrm>
            <a:off x="1619280" y="5084640"/>
            <a:ext cx="6555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4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46" name="Group 18"/>
          <p:cNvGrpSpPr/>
          <p:nvPr/>
        </p:nvGrpSpPr>
        <p:grpSpPr>
          <a:xfrm>
            <a:off x="6400800" y="762120"/>
            <a:ext cx="1600200" cy="914400"/>
            <a:chOff x="6400800" y="762120"/>
            <a:chExt cx="1600200" cy="914400"/>
          </a:xfrm>
        </p:grpSpPr>
        <p:sp>
          <p:nvSpPr>
            <p:cNvPr id="547" name="WordArt 19"/>
            <p:cNvSpPr txBox="1"/>
            <p:nvPr/>
          </p:nvSpPr>
          <p:spPr>
            <a:xfrm>
              <a:off x="6400800" y="762120"/>
              <a:ext cx="59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48" name="WordArt 20"/>
            <p:cNvSpPr txBox="1"/>
            <p:nvPr/>
          </p:nvSpPr>
          <p:spPr>
            <a:xfrm>
              <a:off x="7086600" y="83844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49" name="Group 21"/>
          <p:cNvGrpSpPr/>
          <p:nvPr/>
        </p:nvGrpSpPr>
        <p:grpSpPr>
          <a:xfrm>
            <a:off x="6934320" y="2133720"/>
            <a:ext cx="1600200" cy="914400"/>
            <a:chOff x="6934320" y="2133720"/>
            <a:chExt cx="1600200" cy="914400"/>
          </a:xfrm>
        </p:grpSpPr>
        <p:sp>
          <p:nvSpPr>
            <p:cNvPr id="550" name="WordArt 22"/>
            <p:cNvSpPr txBox="1"/>
            <p:nvPr/>
          </p:nvSpPr>
          <p:spPr>
            <a:xfrm>
              <a:off x="6934320" y="2133720"/>
              <a:ext cx="595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1" name="WordArt 23"/>
            <p:cNvSpPr txBox="1"/>
            <p:nvPr/>
          </p:nvSpPr>
          <p:spPr>
            <a:xfrm>
              <a:off x="7620120" y="2209680"/>
              <a:ext cx="914400" cy="819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2" name="Group 24"/>
          <p:cNvGrpSpPr/>
          <p:nvPr/>
        </p:nvGrpSpPr>
        <p:grpSpPr>
          <a:xfrm>
            <a:off x="7010280" y="3505320"/>
            <a:ext cx="1600200" cy="914400"/>
            <a:chOff x="7010280" y="3505320"/>
            <a:chExt cx="1600200" cy="914400"/>
          </a:xfrm>
        </p:grpSpPr>
        <p:sp>
          <p:nvSpPr>
            <p:cNvPr id="553" name="WordArt 25"/>
            <p:cNvSpPr txBox="1"/>
            <p:nvPr/>
          </p:nvSpPr>
          <p:spPr>
            <a:xfrm>
              <a:off x="7010280" y="3657600"/>
              <a:ext cx="5950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k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4" name="WordArt 26"/>
            <p:cNvSpPr txBox="1"/>
            <p:nvPr/>
          </p:nvSpPr>
          <p:spPr>
            <a:xfrm>
              <a:off x="7696080" y="350532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55" name="Group 27"/>
          <p:cNvGrpSpPr/>
          <p:nvPr/>
        </p:nvGrpSpPr>
        <p:grpSpPr>
          <a:xfrm>
            <a:off x="6443640" y="4797360"/>
            <a:ext cx="1625400" cy="1143000"/>
            <a:chOff x="6443640" y="4797360"/>
            <a:chExt cx="1625400" cy="1143000"/>
          </a:xfrm>
        </p:grpSpPr>
        <p:sp>
          <p:nvSpPr>
            <p:cNvPr id="556" name="WordArt 28"/>
            <p:cNvSpPr txBox="1"/>
            <p:nvPr/>
          </p:nvSpPr>
          <p:spPr>
            <a:xfrm>
              <a:off x="6443640" y="4797360"/>
              <a:ext cx="28584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57" name="WordArt 29"/>
            <p:cNvSpPr txBox="1"/>
            <p:nvPr/>
          </p:nvSpPr>
          <p:spPr>
            <a:xfrm>
              <a:off x="6850080" y="5102280"/>
              <a:ext cx="121896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5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9B3E-E484-493E-BF33-2990DE0E6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1" name="Group 3"/>
          <p:cNvGrpSpPr/>
          <p:nvPr/>
        </p:nvGrpSpPr>
        <p:grpSpPr>
          <a:xfrm>
            <a:off x="469440" y="7200"/>
            <a:ext cx="8461080" cy="6801120"/>
            <a:chOff x="469440" y="7200"/>
            <a:chExt cx="8461080" cy="6801120"/>
          </a:xfrm>
        </p:grpSpPr>
        <p:sp>
          <p:nvSpPr>
            <p:cNvPr id="562" name="AutoShape 4"/>
            <p:cNvSpPr/>
            <p:nvPr/>
          </p:nvSpPr>
          <p:spPr>
            <a:xfrm rot="3261600">
              <a:off x="6045480" y="25596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5"/>
            <p:cNvSpPr/>
            <p:nvPr/>
          </p:nvSpPr>
          <p:spPr>
            <a:xfrm rot="4644000">
              <a:off x="6609600" y="1465920"/>
              <a:ext cx="186228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6"/>
            <p:cNvSpPr/>
            <p:nvPr/>
          </p:nvSpPr>
          <p:spPr>
            <a:xfrm rot="7293600">
              <a:off x="6059160" y="413496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7"/>
            <p:cNvSpPr/>
            <p:nvPr/>
          </p:nvSpPr>
          <p:spPr>
            <a:xfrm rot="5988000">
              <a:off x="6604920" y="282420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AutoShape 8"/>
            <p:cNvSpPr/>
            <p:nvPr/>
          </p:nvSpPr>
          <p:spPr>
            <a:xfrm rot="14237400">
              <a:off x="1357560" y="4151880"/>
              <a:ext cx="1862280" cy="24318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AutoShape 9"/>
            <p:cNvSpPr/>
            <p:nvPr/>
          </p:nvSpPr>
          <p:spPr>
            <a:xfrm rot="15619800">
              <a:off x="894240" y="2945520"/>
              <a:ext cx="1861920" cy="2432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AutoShape 10"/>
            <p:cNvSpPr/>
            <p:nvPr/>
          </p:nvSpPr>
          <p:spPr>
            <a:xfrm rot="16963200">
              <a:off x="931680" y="1556640"/>
              <a:ext cx="1862280" cy="2436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11"/>
            <p:cNvSpPr/>
            <p:nvPr/>
          </p:nvSpPr>
          <p:spPr>
            <a:xfrm rot="18269400">
              <a:off x="1473120" y="287280"/>
              <a:ext cx="1931760" cy="2424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2"/>
            <p:cNvSpPr/>
            <p:nvPr/>
          </p:nvSpPr>
          <p:spPr>
            <a:xfrm>
              <a:off x="3278160" y="2057400"/>
              <a:ext cx="281916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WordArt 13"/>
            <p:cNvSpPr txBox="1"/>
            <p:nvPr/>
          </p:nvSpPr>
          <p:spPr>
            <a:xfrm>
              <a:off x="3735360" y="2514600"/>
              <a:ext cx="178092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72" name="WordArt 14"/>
          <p:cNvSpPr txBox="1"/>
          <p:nvPr/>
        </p:nvSpPr>
        <p:spPr>
          <a:xfrm>
            <a:off x="990720" y="20890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p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3" name="WordArt 15"/>
          <p:cNvSpPr txBox="1"/>
          <p:nvPr/>
        </p:nvSpPr>
        <p:spPr>
          <a:xfrm>
            <a:off x="1676520" y="717480"/>
            <a:ext cx="7506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4" name="WordArt 16"/>
          <p:cNvSpPr txBox="1"/>
          <p:nvPr/>
        </p:nvSpPr>
        <p:spPr>
          <a:xfrm>
            <a:off x="1447920" y="5029200"/>
            <a:ext cx="761760" cy="121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f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575" name="WordArt 17"/>
          <p:cNvSpPr txBox="1"/>
          <p:nvPr/>
        </p:nvSpPr>
        <p:spPr>
          <a:xfrm>
            <a:off x="914400" y="3689280"/>
            <a:ext cx="75096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576" name="Group 18"/>
          <p:cNvGrpSpPr/>
          <p:nvPr/>
        </p:nvGrpSpPr>
        <p:grpSpPr>
          <a:xfrm>
            <a:off x="6553080" y="838080"/>
            <a:ext cx="1524240" cy="914400"/>
            <a:chOff x="6553080" y="838080"/>
            <a:chExt cx="1524240" cy="914400"/>
          </a:xfrm>
        </p:grpSpPr>
        <p:sp>
          <p:nvSpPr>
            <p:cNvPr id="577" name="WordArt 19"/>
            <p:cNvSpPr txBox="1"/>
            <p:nvPr/>
          </p:nvSpPr>
          <p:spPr>
            <a:xfrm>
              <a:off x="6553080" y="838080"/>
              <a:ext cx="5335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78" name="WordArt 20"/>
            <p:cNvSpPr txBox="1"/>
            <p:nvPr/>
          </p:nvSpPr>
          <p:spPr>
            <a:xfrm>
              <a:off x="7162920" y="914400"/>
              <a:ext cx="914400" cy="819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79" name="Group 21"/>
          <p:cNvGrpSpPr/>
          <p:nvPr/>
        </p:nvGrpSpPr>
        <p:grpSpPr>
          <a:xfrm>
            <a:off x="7010280" y="1981080"/>
            <a:ext cx="1600200" cy="1143000"/>
            <a:chOff x="7010280" y="1981080"/>
            <a:chExt cx="1600200" cy="1143000"/>
          </a:xfrm>
        </p:grpSpPr>
        <p:sp>
          <p:nvSpPr>
            <p:cNvPr id="580" name="WordArt 22"/>
            <p:cNvSpPr txBox="1"/>
            <p:nvPr/>
          </p:nvSpPr>
          <p:spPr>
            <a:xfrm>
              <a:off x="7010280" y="2209680"/>
              <a:ext cx="6098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p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1" name="WordArt 23"/>
            <p:cNvSpPr txBox="1"/>
            <p:nvPr/>
          </p:nvSpPr>
          <p:spPr>
            <a:xfrm>
              <a:off x="7696080" y="1981080"/>
              <a:ext cx="91440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2" name="Group 24"/>
          <p:cNvGrpSpPr/>
          <p:nvPr/>
        </p:nvGrpSpPr>
        <p:grpSpPr>
          <a:xfrm>
            <a:off x="7010280" y="3429000"/>
            <a:ext cx="1600200" cy="990720"/>
            <a:chOff x="7010280" y="3429000"/>
            <a:chExt cx="1600200" cy="990720"/>
          </a:xfrm>
        </p:grpSpPr>
        <p:sp>
          <p:nvSpPr>
            <p:cNvPr id="583" name="WordArt 25"/>
            <p:cNvSpPr txBox="1"/>
            <p:nvPr/>
          </p:nvSpPr>
          <p:spPr>
            <a:xfrm>
              <a:off x="7010280" y="3657600"/>
              <a:ext cx="59544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m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4" name="WordArt 26"/>
            <p:cNvSpPr txBox="1"/>
            <p:nvPr/>
          </p:nvSpPr>
          <p:spPr>
            <a:xfrm>
              <a:off x="7696080" y="3429000"/>
              <a:ext cx="9144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585" name="Group 27"/>
          <p:cNvGrpSpPr/>
          <p:nvPr/>
        </p:nvGrpSpPr>
        <p:grpSpPr>
          <a:xfrm>
            <a:off x="6477120" y="4876920"/>
            <a:ext cx="1600200" cy="1066680"/>
            <a:chOff x="6477120" y="4876920"/>
            <a:chExt cx="1600200" cy="1066680"/>
          </a:xfrm>
        </p:grpSpPr>
        <p:sp>
          <p:nvSpPr>
            <p:cNvPr id="586" name="WordArt 28"/>
            <p:cNvSpPr txBox="1"/>
            <p:nvPr/>
          </p:nvSpPr>
          <p:spPr>
            <a:xfrm>
              <a:off x="6477120" y="4876920"/>
              <a:ext cx="6858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587" name="WordArt 29"/>
            <p:cNvSpPr txBox="1"/>
            <p:nvPr/>
          </p:nvSpPr>
          <p:spPr>
            <a:xfrm>
              <a:off x="7162920" y="5029200"/>
              <a:ext cx="91440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58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95E6-071E-4BD2-A0AE-76E4260E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1" name="Group 3"/>
          <p:cNvGrpSpPr/>
          <p:nvPr/>
        </p:nvGrpSpPr>
        <p:grpSpPr>
          <a:xfrm>
            <a:off x="469080" y="7560"/>
            <a:ext cx="8424360" cy="6800400"/>
            <a:chOff x="469080" y="7560"/>
            <a:chExt cx="8424360" cy="6800400"/>
          </a:xfrm>
        </p:grpSpPr>
        <p:sp>
          <p:nvSpPr>
            <p:cNvPr id="592" name="AutoShape 4"/>
            <p:cNvSpPr/>
            <p:nvPr/>
          </p:nvSpPr>
          <p:spPr>
            <a:xfrm rot="3261600">
              <a:off x="6044400" y="2566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 rot="4644000">
              <a:off x="6571080" y="145224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AutoShape 6"/>
            <p:cNvSpPr/>
            <p:nvPr/>
          </p:nvSpPr>
          <p:spPr>
            <a:xfrm rot="7293600">
              <a:off x="6057720" y="41356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AutoShape 7"/>
            <p:cNvSpPr/>
            <p:nvPr/>
          </p:nvSpPr>
          <p:spPr>
            <a:xfrm rot="5988000">
              <a:off x="6603480" y="28245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8"/>
            <p:cNvSpPr/>
            <p:nvPr/>
          </p:nvSpPr>
          <p:spPr>
            <a:xfrm rot="14237400">
              <a:off x="1356840" y="4151880"/>
              <a:ext cx="1862280" cy="2431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 rot="15619800">
              <a:off x="893880" y="2945880"/>
              <a:ext cx="1861920" cy="2431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 rot="16963200">
              <a:off x="930960" y="1557360"/>
              <a:ext cx="1862280" cy="2436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1"/>
            <p:cNvSpPr/>
            <p:nvPr/>
          </p:nvSpPr>
          <p:spPr>
            <a:xfrm rot="18269400">
              <a:off x="1472040" y="287280"/>
              <a:ext cx="1931760" cy="24235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2"/>
            <p:cNvSpPr/>
            <p:nvPr/>
          </p:nvSpPr>
          <p:spPr>
            <a:xfrm>
              <a:off x="3277440" y="2057400"/>
              <a:ext cx="2818440" cy="28954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WordArt 13"/>
            <p:cNvSpPr txBox="1"/>
            <p:nvPr/>
          </p:nvSpPr>
          <p:spPr>
            <a:xfrm>
              <a:off x="3734640" y="2514600"/>
              <a:ext cx="1780560" cy="180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02" name="WordArt 14"/>
          <p:cNvSpPr txBox="1"/>
          <p:nvPr/>
        </p:nvSpPr>
        <p:spPr>
          <a:xfrm>
            <a:off x="1258920" y="2133720"/>
            <a:ext cx="569880" cy="110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3" name="WordArt 15"/>
          <p:cNvSpPr txBox="1"/>
          <p:nvPr/>
        </p:nvSpPr>
        <p:spPr>
          <a:xfrm>
            <a:off x="1600200" y="685800"/>
            <a:ext cx="91440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4" name="WordArt 16"/>
          <p:cNvSpPr txBox="1"/>
          <p:nvPr/>
        </p:nvSpPr>
        <p:spPr>
          <a:xfrm>
            <a:off x="1981080" y="5105520"/>
            <a:ext cx="533520" cy="98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05" name="WordArt 17"/>
          <p:cNvSpPr txBox="1"/>
          <p:nvPr/>
        </p:nvSpPr>
        <p:spPr>
          <a:xfrm>
            <a:off x="914400" y="3689280"/>
            <a:ext cx="99072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s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grpSp>
        <p:nvGrpSpPr>
          <p:cNvPr id="606" name="Group 18"/>
          <p:cNvGrpSpPr/>
          <p:nvPr/>
        </p:nvGrpSpPr>
        <p:grpSpPr>
          <a:xfrm>
            <a:off x="6553080" y="762120"/>
            <a:ext cx="1447920" cy="914400"/>
            <a:chOff x="6553080" y="762120"/>
            <a:chExt cx="1447920" cy="914400"/>
          </a:xfrm>
        </p:grpSpPr>
        <p:sp>
          <p:nvSpPr>
            <p:cNvPr id="607" name="WordArt 19"/>
            <p:cNvSpPr txBox="1"/>
            <p:nvPr/>
          </p:nvSpPr>
          <p:spPr>
            <a:xfrm>
              <a:off x="6553080" y="762120"/>
              <a:ext cx="76212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g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08" name="WordArt 20"/>
            <p:cNvSpPr txBox="1"/>
            <p:nvPr/>
          </p:nvSpPr>
          <p:spPr>
            <a:xfrm>
              <a:off x="7391520" y="9144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09" name="Group 21"/>
          <p:cNvGrpSpPr/>
          <p:nvPr/>
        </p:nvGrpSpPr>
        <p:grpSpPr>
          <a:xfrm>
            <a:off x="7093080" y="2133720"/>
            <a:ext cx="1439280" cy="914400"/>
            <a:chOff x="7093080" y="2133720"/>
            <a:chExt cx="1439280" cy="914400"/>
          </a:xfrm>
        </p:grpSpPr>
        <p:sp>
          <p:nvSpPr>
            <p:cNvPr id="610" name="WordArt 22"/>
            <p:cNvSpPr txBox="1"/>
            <p:nvPr/>
          </p:nvSpPr>
          <p:spPr>
            <a:xfrm>
              <a:off x="7093080" y="2133720"/>
              <a:ext cx="757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1" name="WordArt 23"/>
            <p:cNvSpPr txBox="1"/>
            <p:nvPr/>
          </p:nvSpPr>
          <p:spPr>
            <a:xfrm>
              <a:off x="7926120" y="2286000"/>
              <a:ext cx="60624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2" name="Group 24"/>
          <p:cNvGrpSpPr/>
          <p:nvPr/>
        </p:nvGrpSpPr>
        <p:grpSpPr>
          <a:xfrm>
            <a:off x="7086600" y="3505320"/>
            <a:ext cx="1523880" cy="914400"/>
            <a:chOff x="7086600" y="3505320"/>
            <a:chExt cx="1523880" cy="914400"/>
          </a:xfrm>
        </p:grpSpPr>
        <p:sp>
          <p:nvSpPr>
            <p:cNvPr id="613" name="WordArt 25"/>
            <p:cNvSpPr txBox="1"/>
            <p:nvPr/>
          </p:nvSpPr>
          <p:spPr>
            <a:xfrm>
              <a:off x="7086600" y="3505320"/>
              <a:ext cx="8380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sh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4" name="WordArt 26"/>
            <p:cNvSpPr txBox="1"/>
            <p:nvPr/>
          </p:nvSpPr>
          <p:spPr>
            <a:xfrm>
              <a:off x="8001000" y="3657600"/>
              <a:ext cx="609480" cy="74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grpSp>
        <p:nvGrpSpPr>
          <p:cNvPr id="615" name="Group 27"/>
          <p:cNvGrpSpPr/>
          <p:nvPr/>
        </p:nvGrpSpPr>
        <p:grpSpPr>
          <a:xfrm>
            <a:off x="6858000" y="5029200"/>
            <a:ext cx="1143000" cy="990720"/>
            <a:chOff x="6858000" y="5029200"/>
            <a:chExt cx="1143000" cy="990720"/>
          </a:xfrm>
        </p:grpSpPr>
        <p:sp>
          <p:nvSpPr>
            <p:cNvPr id="616" name="WordArt 28"/>
            <p:cNvSpPr txBox="1"/>
            <p:nvPr/>
          </p:nvSpPr>
          <p:spPr>
            <a:xfrm>
              <a:off x="6858000" y="5257800"/>
              <a:ext cx="38088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黑体"/>
                </a:rPr>
                <a:t>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617" name="WordArt 29"/>
            <p:cNvSpPr txBox="1"/>
            <p:nvPr/>
          </p:nvSpPr>
          <p:spPr>
            <a:xfrm>
              <a:off x="7315200" y="5029200"/>
              <a:ext cx="685800" cy="97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618" name="灯片编号占位符 3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5EB1-63A4-42EB-821D-ED2D32D9F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页脚占位符 3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4" descr="ai4"/>
          <p:cNvPicPr/>
          <p:nvPr/>
        </p:nvPicPr>
        <p:blipFill>
          <a:blip r:embed="rId1"/>
          <a:stretch/>
        </p:blipFill>
        <p:spPr>
          <a:xfrm>
            <a:off x="2916360" y="333360"/>
            <a:ext cx="3487680" cy="5357880"/>
          </a:xfrm>
          <a:prstGeom prst="rect">
            <a:avLst/>
          </a:prstGeom>
          <a:ln w="0">
            <a:noFill/>
          </a:ln>
        </p:spPr>
      </p:pic>
      <p:sp>
        <p:nvSpPr>
          <p:cNvPr id="621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41CD-2003-4742-967E-F5AED52D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ai5"/>
          <p:cNvPicPr/>
          <p:nvPr/>
        </p:nvPicPr>
        <p:blipFill>
          <a:blip r:embed="rId1"/>
          <a:stretch/>
        </p:blipFill>
        <p:spPr>
          <a:xfrm>
            <a:off x="2771640" y="404640"/>
            <a:ext cx="3649680" cy="5381640"/>
          </a:xfrm>
          <a:prstGeom prst="rect">
            <a:avLst/>
          </a:prstGeom>
          <a:ln w="0">
            <a:noFill/>
          </a:ln>
        </p:spPr>
      </p:pic>
      <p:sp>
        <p:nvSpPr>
          <p:cNvPr id="624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78FFD-4A95-47F8-BF43-02EFA923A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4" descr="ai6"/>
          <p:cNvPicPr/>
          <p:nvPr/>
        </p:nvPicPr>
        <p:blipFill>
          <a:blip r:embed="rId1"/>
          <a:stretch/>
        </p:blipFill>
        <p:spPr>
          <a:xfrm>
            <a:off x="2627280" y="404640"/>
            <a:ext cx="3941640" cy="5764320"/>
          </a:xfrm>
          <a:prstGeom prst="rect">
            <a:avLst/>
          </a:prstGeom>
          <a:ln w="0">
            <a:noFill/>
          </a:ln>
        </p:spPr>
      </p:pic>
      <p:sp>
        <p:nvSpPr>
          <p:cNvPr id="627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48CA-6A55-41A9-AF4E-460EB9A17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4" descr="ai7"/>
          <p:cNvPicPr/>
          <p:nvPr/>
        </p:nvPicPr>
        <p:blipFill>
          <a:blip r:embed="rId1"/>
          <a:stretch/>
        </p:blipFill>
        <p:spPr>
          <a:xfrm>
            <a:off x="755640" y="766800"/>
            <a:ext cx="7777080" cy="5151240"/>
          </a:xfrm>
          <a:prstGeom prst="rect">
            <a:avLst/>
          </a:prstGeom>
          <a:ln w="0">
            <a:noFill/>
          </a:ln>
        </p:spPr>
      </p:pic>
      <p:sp>
        <p:nvSpPr>
          <p:cNvPr id="630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5E8B-FD5E-40CB-A8E0-AE630C3C6E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9" descr="168_5795"/>
          <p:cNvPicPr/>
          <p:nvPr/>
        </p:nvPicPr>
        <p:blipFill>
          <a:blip r:embed="rId2"/>
          <a:stretch/>
        </p:blipFill>
        <p:spPr>
          <a:xfrm>
            <a:off x="1042920" y="2637000"/>
            <a:ext cx="5145120" cy="3652560"/>
          </a:xfrm>
          <a:prstGeom prst="rect">
            <a:avLst/>
          </a:prstGeom>
          <a:ln w="0">
            <a:noFill/>
          </a:ln>
        </p:spPr>
      </p:pic>
      <p:sp>
        <p:nvSpPr>
          <p:cNvPr id="633" name="Text Box 10"/>
          <p:cNvSpPr/>
          <p:nvPr/>
        </p:nvSpPr>
        <p:spPr>
          <a:xfrm>
            <a:off x="2500560" y="620640"/>
            <a:ext cx="247860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á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 c</a:t>
            </a:r>
            <a:r>
              <a:rPr b="0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白     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"/>
          <p:cNvSpPr/>
          <p:nvPr/>
        </p:nvSpPr>
        <p:spPr>
          <a:xfrm>
            <a:off x="591984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F8C0-D8C3-4D69-9CCF-AD36CF7C1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7" name="Picture 2" descr="73806f722rfnycd"/>
          <p:cNvPicPr/>
          <p:nvPr/>
        </p:nvPicPr>
        <p:blipFill>
          <a:blip r:embed="rId2"/>
          <a:stretch/>
        </p:blipFill>
        <p:spPr>
          <a:xfrm>
            <a:off x="1979640" y="2781360"/>
            <a:ext cx="3456000" cy="3456000"/>
          </a:xfrm>
          <a:prstGeom prst="rect">
            <a:avLst/>
          </a:prstGeom>
          <a:ln w="0">
            <a:noFill/>
          </a:ln>
        </p:spPr>
      </p:pic>
      <p:sp>
        <p:nvSpPr>
          <p:cNvPr id="638" name="Text Box 3"/>
          <p:cNvSpPr/>
          <p:nvPr/>
        </p:nvSpPr>
        <p:spPr>
          <a:xfrm>
            <a:off x="2202480" y="649440"/>
            <a:ext cx="298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玫       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216D-6987-42A7-9290-7F57E2B41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3"/>
          <p:cNvSpPr/>
          <p:nvPr/>
        </p:nvSpPr>
        <p:spPr>
          <a:xfrm>
            <a:off x="1692360" y="2205000"/>
            <a:ext cx="58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  <a:ea typeface="MS PGothic"/>
              </a:rPr>
              <a:t>a o e i u 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4"/>
          <p:cNvSpPr/>
          <p:nvPr/>
        </p:nvSpPr>
        <p:spPr>
          <a:xfrm>
            <a:off x="1763640" y="1052640"/>
            <a:ext cx="32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单韵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5"/>
          <p:cNvSpPr/>
          <p:nvPr/>
        </p:nvSpPr>
        <p:spPr>
          <a:xfrm>
            <a:off x="1763640" y="350028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  <a:ea typeface="Times New Roman"/>
              </a:rPr>
              <a:t>á  è  ǐ  ū</a:t>
            </a:r>
            <a:r>
              <a:rPr b="0" lang="en-US" sz="7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2ED1-C97F-4F46-BF67-DB7233064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2" descr="20075180292"/>
          <p:cNvPicPr/>
          <p:nvPr/>
        </p:nvPicPr>
        <p:blipFill>
          <a:blip r:embed="rId2"/>
          <a:stretch/>
        </p:blipFill>
        <p:spPr>
          <a:xfrm>
            <a:off x="1476360" y="2708280"/>
            <a:ext cx="4317840" cy="3530520"/>
          </a:xfrm>
          <a:prstGeom prst="rect">
            <a:avLst/>
          </a:prstGeom>
          <a:ln w="0">
            <a:noFill/>
          </a:ln>
        </p:spPr>
      </p:pic>
      <p:sp>
        <p:nvSpPr>
          <p:cNvPr id="642" name="Text Box 3"/>
          <p:cNvSpPr/>
          <p:nvPr/>
        </p:nvSpPr>
        <p:spPr>
          <a:xfrm>
            <a:off x="2370600" y="620640"/>
            <a:ext cx="261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杯 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82C8-1382-4D54-9A58-29B1D5286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8"/>
          <p:cNvSpPr/>
          <p:nvPr/>
        </p:nvSpPr>
        <p:spPr>
          <a:xfrm>
            <a:off x="2282760" y="14018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10" descr="20051475036753"/>
          <p:cNvPicPr/>
          <p:nvPr/>
        </p:nvPicPr>
        <p:blipFill>
          <a:blip r:embed="rId2"/>
          <a:stretch/>
        </p:blipFill>
        <p:spPr>
          <a:xfrm>
            <a:off x="1763640" y="2708280"/>
            <a:ext cx="3960720" cy="342900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11"/>
          <p:cNvSpPr/>
          <p:nvPr/>
        </p:nvSpPr>
        <p:spPr>
          <a:xfrm>
            <a:off x="2508120" y="636480"/>
            <a:ext cx="2279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è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zi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被     子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9F697-B905-4C86-8D8B-7CBD597E9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4"/>
          <p:cNvSpPr/>
          <p:nvPr/>
        </p:nvSpPr>
        <p:spPr>
          <a:xfrm>
            <a:off x="2339640" y="620640"/>
            <a:ext cx="2684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à     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大       海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1" name="Picture 5" descr="zyqlovestory,20070707123315855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837F-29AE-48C3-B067-7BE358E9D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haigui2_002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74328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6"/>
          <p:cNvSpPr/>
          <p:nvPr/>
        </p:nvSpPr>
        <p:spPr>
          <a:xfrm>
            <a:off x="2310120" y="620640"/>
            <a:ext cx="2685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ǎ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ɡ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u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ī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海     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6445-7303-4B4D-9974-D5877C467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964300221847"/>
          <p:cNvPicPr/>
          <p:nvPr/>
        </p:nvPicPr>
        <p:blipFill>
          <a:blip r:embed="rId2"/>
          <a:stretch/>
        </p:blipFill>
        <p:spPr>
          <a:xfrm>
            <a:off x="539640" y="2565360"/>
            <a:ext cx="6193080" cy="38545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5"/>
          <p:cNvSpPr/>
          <p:nvPr/>
        </p:nvSpPr>
        <p:spPr>
          <a:xfrm>
            <a:off x="2397960" y="620640"/>
            <a:ext cx="2313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ē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j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ī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飞     机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F77A5-6A84-4DB1-BDB0-76A0C85B4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5" descr="200610822521553377"/>
          <p:cNvPicPr/>
          <p:nvPr/>
        </p:nvPicPr>
        <p:blipFill>
          <a:blip r:embed="rId2"/>
          <a:stretch/>
        </p:blipFill>
        <p:spPr>
          <a:xfrm>
            <a:off x="539640" y="2492280"/>
            <a:ext cx="6264360" cy="39229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6"/>
          <p:cNvSpPr/>
          <p:nvPr/>
        </p:nvSpPr>
        <p:spPr>
          <a:xfrm>
            <a:off x="2185560" y="620640"/>
            <a:ext cx="2854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éi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hu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梅      花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0331-455C-4A46-A147-679AE1CB9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4" descr="016p"/>
          <p:cNvPicPr/>
          <p:nvPr/>
        </p:nvPicPr>
        <p:blipFill>
          <a:blip r:embed="rId2"/>
          <a:stretch/>
        </p:blipFill>
        <p:spPr>
          <a:xfrm>
            <a:off x="1403280" y="2565360"/>
            <a:ext cx="4464000" cy="37512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6"/>
          <p:cNvSpPr/>
          <p:nvPr/>
        </p:nvSpPr>
        <p:spPr>
          <a:xfrm>
            <a:off x="2491200" y="549360"/>
            <a:ext cx="26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en-US" sz="4800" spc="-1" strike="noStrike">
                <a:solidFill>
                  <a:srgbClr val="ff3300"/>
                </a:solidFill>
                <a:latin typeface="宋体"/>
              </a:rPr>
              <a:t>ài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  shǔ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袋   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C4D6-5734-4601-8F78-23C3AFD95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3" descr="butterfly1"/>
          <p:cNvPicPr/>
          <p:nvPr/>
        </p:nvPicPr>
        <p:blipFill>
          <a:blip r:embed="rId2"/>
          <a:stretch/>
        </p:blipFill>
        <p:spPr>
          <a:xfrm>
            <a:off x="900000" y="4149720"/>
            <a:ext cx="1524240" cy="14349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4" descr="butterfly1"/>
          <p:cNvPicPr/>
          <p:nvPr/>
        </p:nvPicPr>
        <p:blipFill>
          <a:blip r:embed="rId3"/>
          <a:stretch/>
        </p:blipFill>
        <p:spPr>
          <a:xfrm>
            <a:off x="2268360" y="4724280"/>
            <a:ext cx="1219320" cy="1148040"/>
          </a:xfrm>
          <a:prstGeom prst="rect">
            <a:avLst/>
          </a:prstGeom>
          <a:ln w="0">
            <a:noFill/>
          </a:ln>
        </p:spPr>
      </p:pic>
      <p:sp>
        <p:nvSpPr>
          <p:cNvPr id="673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684360" y="1125360"/>
            <a:ext cx="74167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ái ɡē      dài shǔ    mǎi c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há bēi    huà méi   wěi b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wuíjīn     hē shuǐ    pái d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灯片编号占位符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DD34-6302-4146-8C7C-B9CF918C1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4"/>
          <p:cNvSpPr/>
          <p:nvPr/>
        </p:nvSpPr>
        <p:spPr>
          <a:xfrm>
            <a:off x="2334240" y="5751360"/>
            <a:ext cx="111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āi sh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栽  树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839400" y="5751360"/>
            <a:ext cx="9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éi t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培  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5238720" y="5734080"/>
            <a:ext cx="134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í shuǐ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提 水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898560" y="4665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ǐ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zā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shù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é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t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ǒ  qù  tí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u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你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栽    树  ，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他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培   土 ， 我   去  提  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3B94-2794-42E7-A721-66E6E4EE6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页脚占位符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4" descr="W020070323694530889248"/>
          <p:cNvPicPr/>
          <p:nvPr/>
        </p:nvPicPr>
        <p:blipFill>
          <a:blip r:embed="rId1"/>
          <a:srcRect l="14433" t="19520" r="10867" b="24384"/>
          <a:stretch/>
        </p:blipFill>
        <p:spPr>
          <a:xfrm>
            <a:off x="-36360" y="0"/>
            <a:ext cx="9432720" cy="566100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6"/>
          <p:cNvSpPr/>
          <p:nvPr/>
        </p:nvSpPr>
        <p:spPr>
          <a:xfrm>
            <a:off x="826920" y="582948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（    ），他（    ），我（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BE59-679C-43AB-BA86-DB04D1913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C:\Documents and Settings\dell\桌面\12.jpg"/>
          <p:cNvPicPr/>
          <p:nvPr/>
        </p:nvPicPr>
        <p:blipFill>
          <a:blip r:embed="rId1"/>
          <a:stretch/>
        </p:blipFill>
        <p:spPr>
          <a:xfrm>
            <a:off x="0" y="0"/>
            <a:ext cx="9131400" cy="4214880"/>
          </a:xfrm>
          <a:prstGeom prst="rect">
            <a:avLst/>
          </a:prstGeom>
          <a:ln w="0">
            <a:noFill/>
          </a:ln>
        </p:spPr>
      </p:pic>
      <p:sp>
        <p:nvSpPr>
          <p:cNvPr id="466" name="TextBox 2"/>
          <p:cNvSpPr/>
          <p:nvPr/>
        </p:nvSpPr>
        <p:spPr>
          <a:xfrm>
            <a:off x="395280" y="907920"/>
            <a:ext cx="407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单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3"/>
          <p:cNvSpPr/>
          <p:nvPr/>
        </p:nvSpPr>
        <p:spPr>
          <a:xfrm>
            <a:off x="5435640" y="981000"/>
            <a:ext cx="374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复韵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8"/>
          <p:cNvSpPr/>
          <p:nvPr/>
        </p:nvSpPr>
        <p:spPr>
          <a:xfrm>
            <a:off x="2557440" y="407664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9"/>
          <p:cNvSpPr/>
          <p:nvPr/>
        </p:nvSpPr>
        <p:spPr>
          <a:xfrm>
            <a:off x="3752280" y="406728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0"/>
          <p:cNvSpPr/>
          <p:nvPr/>
        </p:nvSpPr>
        <p:spPr>
          <a:xfrm>
            <a:off x="1787400" y="5373720"/>
            <a:ext cx="40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1"/>
          <p:cNvSpPr/>
          <p:nvPr/>
        </p:nvSpPr>
        <p:spPr>
          <a:xfrm>
            <a:off x="270216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2"/>
          <p:cNvSpPr/>
          <p:nvPr/>
        </p:nvSpPr>
        <p:spPr>
          <a:xfrm>
            <a:off x="3853080" y="522936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</a:rPr>
              <a:t>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3"/>
          <p:cNvSpPr/>
          <p:nvPr/>
        </p:nvSpPr>
        <p:spPr>
          <a:xfrm>
            <a:off x="1439640" y="3929040"/>
            <a:ext cx="92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B54D-A27F-4E96-8727-7F10E836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77" name="Group 3"/>
          <p:cNvGrpSpPr/>
          <p:nvPr/>
        </p:nvGrpSpPr>
        <p:grpSpPr>
          <a:xfrm>
            <a:off x="4140360" y="2205000"/>
            <a:ext cx="4176360" cy="1584000"/>
            <a:chOff x="4140360" y="2205000"/>
            <a:chExt cx="4176360" cy="1584000"/>
          </a:xfrm>
        </p:grpSpPr>
        <p:sp>
          <p:nvSpPr>
            <p:cNvPr id="478" name="WordArt 4"/>
            <p:cNvSpPr txBox="1"/>
            <p:nvPr/>
          </p:nvSpPr>
          <p:spPr>
            <a:xfrm>
              <a:off x="414036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ɑ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79" name="WordArt 5"/>
            <p:cNvSpPr txBox="1"/>
            <p:nvPr/>
          </p:nvSpPr>
          <p:spPr>
            <a:xfrm>
              <a:off x="7325640" y="2205000"/>
              <a:ext cx="99108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u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0" name="WordArt 6"/>
            <p:cNvSpPr txBox="1"/>
            <p:nvPr/>
          </p:nvSpPr>
          <p:spPr>
            <a:xfrm>
              <a:off x="5768640" y="2205000"/>
              <a:ext cx="990720" cy="158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方正姚体"/>
                </a:rPr>
                <a:t>ei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81" name="WordArt 7"/>
          <p:cNvSpPr txBox="1"/>
          <p:nvPr/>
        </p:nvSpPr>
        <p:spPr>
          <a:xfrm>
            <a:off x="826920" y="2205000"/>
            <a:ext cx="259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复韵母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482" name="Text Box 8"/>
          <p:cNvSpPr/>
          <p:nvPr/>
        </p:nvSpPr>
        <p:spPr>
          <a:xfrm>
            <a:off x="468360" y="54936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拼音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灯片编号占位符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500B-1338-4D43-9A93-DB6890A14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3" descr="bb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486" name="WordArt 4"/>
          <p:cNvSpPr txBox="1"/>
          <p:nvPr/>
        </p:nvSpPr>
        <p:spPr>
          <a:xfrm>
            <a:off x="525780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ɑ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87" name="Group 5"/>
          <p:cNvGrpSpPr/>
          <p:nvPr/>
        </p:nvGrpSpPr>
        <p:grpSpPr>
          <a:xfrm>
            <a:off x="4211640" y="4076640"/>
            <a:ext cx="4648320" cy="895320"/>
            <a:chOff x="4211640" y="4076640"/>
            <a:chExt cx="4648320" cy="895320"/>
          </a:xfrm>
        </p:grpSpPr>
        <p:sp>
          <p:nvSpPr>
            <p:cNvPr id="488" name="WordArt 6"/>
            <p:cNvSpPr txBox="1"/>
            <p:nvPr/>
          </p:nvSpPr>
          <p:spPr>
            <a:xfrm>
              <a:off x="42116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ā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89" name="WordArt 7"/>
            <p:cNvSpPr txBox="1"/>
            <p:nvPr/>
          </p:nvSpPr>
          <p:spPr>
            <a:xfrm>
              <a:off x="5507280" y="407664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á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0" name="WordArt 8"/>
            <p:cNvSpPr txBox="1"/>
            <p:nvPr/>
          </p:nvSpPr>
          <p:spPr>
            <a:xfrm>
              <a:off x="680256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ǎ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1" name="WordArt 9"/>
            <p:cNvSpPr txBox="1"/>
            <p:nvPr/>
          </p:nvSpPr>
          <p:spPr>
            <a:xfrm>
              <a:off x="8097840" y="407664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à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sp>
        <p:nvSpPr>
          <p:cNvPr id="492" name="Text Box 10"/>
          <p:cNvSpPr/>
          <p:nvPr/>
        </p:nvSpPr>
        <p:spPr>
          <a:xfrm>
            <a:off x="4859280" y="357336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4D7D-8075-4920-8275-393389AE1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5" name="WordArt 3"/>
          <p:cNvSpPr txBox="1"/>
          <p:nvPr/>
        </p:nvSpPr>
        <p:spPr>
          <a:xfrm>
            <a:off x="5562720" y="1371600"/>
            <a:ext cx="178092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e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496" name="Group 4"/>
          <p:cNvGrpSpPr/>
          <p:nvPr/>
        </p:nvGrpSpPr>
        <p:grpSpPr>
          <a:xfrm>
            <a:off x="4284720" y="4005360"/>
            <a:ext cx="4647960" cy="895320"/>
            <a:chOff x="4284720" y="4005360"/>
            <a:chExt cx="4647960" cy="895320"/>
          </a:xfrm>
        </p:grpSpPr>
        <p:sp>
          <p:nvSpPr>
            <p:cNvPr id="497" name="WordArt 5"/>
            <p:cNvSpPr txBox="1"/>
            <p:nvPr/>
          </p:nvSpPr>
          <p:spPr>
            <a:xfrm>
              <a:off x="42847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ē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8" name="WordArt 6"/>
            <p:cNvSpPr txBox="1"/>
            <p:nvPr/>
          </p:nvSpPr>
          <p:spPr>
            <a:xfrm>
              <a:off x="55800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é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499" name="WordArt 7"/>
            <p:cNvSpPr txBox="1"/>
            <p:nvPr/>
          </p:nvSpPr>
          <p:spPr>
            <a:xfrm>
              <a:off x="687528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ě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00" name="WordArt 8"/>
            <p:cNvSpPr txBox="1"/>
            <p:nvPr/>
          </p:nvSpPr>
          <p:spPr>
            <a:xfrm>
              <a:off x="817092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èi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01" name="Picture 12" descr="e57b0565-c5b2-444d-9e93-ecfe79fd6f75"/>
          <p:cNvPicPr/>
          <p:nvPr/>
        </p:nvPicPr>
        <p:blipFill>
          <a:blip r:embed="rId2"/>
          <a:stretch/>
        </p:blipFill>
        <p:spPr>
          <a:xfrm>
            <a:off x="0" y="404640"/>
            <a:ext cx="4067280" cy="5400720"/>
          </a:xfrm>
          <a:prstGeom prst="rect">
            <a:avLst/>
          </a:prstGeom>
          <a:ln w="0">
            <a:noFill/>
          </a:ln>
        </p:spPr>
      </p:pic>
      <p:pic>
        <p:nvPicPr>
          <p:cNvPr id="502" name="拔萝卜.mp3" descr=""/>
          <p:cNvPicPr/>
          <p:nvPr/>
        </p:nvPicPr>
        <p:blipFill>
          <a:blip r:embed="rId3"/>
          <a:stretch/>
        </p:blipFill>
        <p:spPr>
          <a:xfrm>
            <a:off x="1835280" y="6237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03" name="灯片编号占位符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F7E9-02D3-42BB-BF3D-5F15F9ECD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矩形 17421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125279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20061212000913935_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7" name="WordArt 3"/>
          <p:cNvSpPr txBox="1"/>
          <p:nvPr/>
        </p:nvSpPr>
        <p:spPr>
          <a:xfrm>
            <a:off x="5638680" y="1295280"/>
            <a:ext cx="1781280" cy="18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方正姚体"/>
              </a:rPr>
              <a:t>ui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方正姚体"/>
              <a:ea typeface="方正姚体"/>
            </a:endParaRPr>
          </a:p>
        </p:txBody>
      </p:sp>
      <p:grpSp>
        <p:nvGrpSpPr>
          <p:cNvPr id="508" name="Group 4"/>
          <p:cNvGrpSpPr/>
          <p:nvPr/>
        </p:nvGrpSpPr>
        <p:grpSpPr>
          <a:xfrm>
            <a:off x="4211640" y="4005360"/>
            <a:ext cx="4647960" cy="895320"/>
            <a:chOff x="4211640" y="4005360"/>
            <a:chExt cx="4647960" cy="895320"/>
          </a:xfrm>
        </p:grpSpPr>
        <p:sp>
          <p:nvSpPr>
            <p:cNvPr id="509" name="WordArt 5"/>
            <p:cNvSpPr txBox="1"/>
            <p:nvPr/>
          </p:nvSpPr>
          <p:spPr>
            <a:xfrm>
              <a:off x="42116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ī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0" name="WordArt 6"/>
            <p:cNvSpPr txBox="1"/>
            <p:nvPr/>
          </p:nvSpPr>
          <p:spPr>
            <a:xfrm>
              <a:off x="550692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í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1" name="WordArt 7"/>
            <p:cNvSpPr txBox="1"/>
            <p:nvPr/>
          </p:nvSpPr>
          <p:spPr>
            <a:xfrm>
              <a:off x="6802200" y="4005360"/>
              <a:ext cx="76212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ǐ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  <p:sp>
          <p:nvSpPr>
            <p:cNvPr id="512" name="WordArt 8"/>
            <p:cNvSpPr txBox="1"/>
            <p:nvPr/>
          </p:nvSpPr>
          <p:spPr>
            <a:xfrm>
              <a:off x="8097840" y="4005360"/>
              <a:ext cx="761760" cy="895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8000"/>
                  </a:solidFill>
                  <a:latin typeface="方正姚体"/>
                </a:rPr>
                <a:t>uì</a:t>
              </a:r>
              <a:endPara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latin typeface="方正姚体"/>
                <a:ea typeface="方正姚体"/>
              </a:endParaRPr>
            </a:p>
          </p:txBody>
        </p:sp>
      </p:grpSp>
      <p:pic>
        <p:nvPicPr>
          <p:cNvPr id="513" name="Picture 9" descr="c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灯片编号占位符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FFF5-72CD-47E5-82C9-93B376D76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11" descr="666666"/>
          <p:cNvPicPr/>
          <p:nvPr/>
        </p:nvPicPr>
        <p:blipFill>
          <a:blip r:embed="rId1"/>
          <a:stretch/>
        </p:blipFill>
        <p:spPr>
          <a:xfrm>
            <a:off x="-609480" y="-171360"/>
            <a:ext cx="9753480" cy="702936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2"/>
          <p:cNvSpPr/>
          <p:nvPr/>
        </p:nvSpPr>
        <p:spPr>
          <a:xfrm>
            <a:off x="3551040" y="1557360"/>
            <a:ext cx="6523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白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bái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白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wěi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尾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zuǐ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嘴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zài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在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FC62-56A3-4576-847C-52C43F6F3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666666"/>
          <p:cNvPicPr/>
          <p:nvPr/>
        </p:nvPicPr>
        <p:blipFill>
          <a:blip r:embed="rId1"/>
          <a:stretch/>
        </p:blipFill>
        <p:spPr>
          <a:xfrm>
            <a:off x="-324000" y="-136440"/>
            <a:ext cx="9649080" cy="723744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5"/>
          <p:cNvSpPr/>
          <p:nvPr/>
        </p:nvSpPr>
        <p:spPr>
          <a:xfrm>
            <a:off x="3708360" y="1125360"/>
            <a:ext cx="56516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     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xiǎo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á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tù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chuān pí 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小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白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兔 ， 穿   皮 袄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ěr duo chánɡ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wě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bɑ xiǎ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耳 朵    长  ，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尾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巴  小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sān bàn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uǐ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 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hú  z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 q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瓣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嘴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， 胡  子   翘 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yí dòng yí dòng zǒng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ài</a:t>
            </a:r>
            <a:r>
              <a:rPr b="1" lang="en-US" sz="2800" spc="-1" strike="noStrike">
                <a:solidFill>
                  <a:srgbClr val="ffff66"/>
                </a:solidFill>
                <a:latin typeface="宋体"/>
              </a:rPr>
              <a:t> xiào 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一  动  一  动   总  </a:t>
            </a:r>
            <a:r>
              <a:rPr b="1" lang="zh-CN" sz="2800" spc="-1" strike="noStrike" u="sng">
                <a:solidFill>
                  <a:srgbClr val="ffff66"/>
                </a:solidFill>
                <a:uFillTx/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ff66"/>
                </a:solidFill>
                <a:latin typeface="宋体"/>
              </a:rPr>
              <a:t>  笑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8195-E07E-4F5A-A938-180B0CEFF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20486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51:10Z</dcterms:created>
  <dc:creator/>
  <dc:description/>
  <cp:keywords/>
  <dc:language>en-US</dc:language>
  <cp:lastModifiedBy>User</cp:lastModifiedBy>
  <dcterms:modified xsi:type="dcterms:W3CDTF">2016-10-05T12:57:39Z</dcterms:modified>
  <cp:revision>3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975</vt:lpwstr>
  </property>
</Properties>
</file>